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46F-1DD4-45A7-8215-536241A4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1CC-5781-4EF0-8617-6BC3E0F9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E62-17D9-46EC-9F82-D2EF47D1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456-DC5F-4E96-B53B-2462483C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6F4-9FA3-4652-AC8A-9BFF03EE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12F-FDD8-4D74-8C14-BDF52F59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BD3-10D4-48C1-8A14-BEE294AB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52B-E025-42E8-A229-4BA88ECF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D8A-D449-408D-85B8-87D74B94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490-728F-4A09-B80C-6672BBED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D22-C8A9-4942-B986-8506C623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680-5C7C-4A0F-A434-639EC4D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FCAA-08C1-44BE-9B05-46044F9D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1080" y="546120"/>
            <a:ext cx="62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Lucida Handwriting"/>
              </a:rPr>
              <a:t>Have a refreshing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8001000"/>
            <a:ext cx="1600200" cy="87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3160" y="8137440"/>
            <a:ext cx="584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Each bottle of Fuze Refresh has 100% of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Recommended Daily Allowance of ess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vitamins and bone building cal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5:14Z</dcterms:created>
  <dc:creator>WPS</dc:creator>
  <dc:description/>
  <dc:language>en-US</dc:language>
  <cp:lastModifiedBy>WPS</cp:lastModifiedBy>
  <dcterms:modified xsi:type="dcterms:W3CDTF">2008-06-02T13:43:04Z</dcterms:modified>
  <cp:revision>7</cp:revision>
  <dc:subject/>
  <dc:title>Slide 1</dc:title>
</cp:coreProperties>
</file>